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B1A9-27AC-4221-A24D-DB803C5773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empty spa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the number ZER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when you just sit and be quie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empty spac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the number ZER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when you just sit and be quie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made of teeny tiny particles called protons, neutrons, and electrons. The green and orange dots in the in the middle are called the nucleus of the at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spin (really fast) around the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whole Unive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lanets, stars, people, animals, plants) is made of Atom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are made of teeny tiny particles called protons, neutrons, and electrons. The green and orange dots in the in the middle are called the nucleus of the atom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lectrons spin (really fast) around the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in the whole Univer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planets, stars, people, animals, plants) is made of Atoms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is picture is not exactly how real atoms appear. We can imagine the atom a lot bigger to get an idea of what it actually looks like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this picture is not exactly how real atoms appear. We can imagine the atom a lot bigger to get an idea of what it actually looks like. 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otons and neutrons were as wide as the tip of your finger, and the electrons were the diameter of one human hair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 whole atom would be wider than the length of fifteen football fields!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 way…YES WAY!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protons and neutrons were as wide as the tip of your finger, and the electrons were the diameter of one human hair…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the whole atom would be wider than the length of fifteen football fields!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o way…YES WAY!!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AT…DOES THIS ME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 YOU REALLY WANT TO KNOW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ILL FREA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 PROMI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…DOES THIS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O YOU REALLY WANT TO KNOW?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ILL FREA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 PROMI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YOU REA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YOU READ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 THE ATOM IS 99.9%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TY SPAC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 THE ATOM IS 99.9%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TY SPACE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 I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TOM I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!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MADE OF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IS MADE OF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LD YOU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FREAK YOU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LD YOU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OULD FREAK YOU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THIS BE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THIS BE TRU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YOUR HEAD DOWN 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’mon…Try really har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very still…can you do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 YOUR HEAD DOWN AN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’mon…Try really har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very still…can you do i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RUE BECAU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SE ZILLIONS AND CABILLIONS OF ATOMS HOOK UP (LINK ELECTRONS) TOGETHER THEY MAKE WHAT WE SEE AS SOLID OBJE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RUE BECAUS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HESE ZILLIONS AND CABILLIONS OF ATOMS HOOK UP (LINK ELECTRONS) TOGETHER THEY MAKE WHAT WE SEE AS SOLID OBJECT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CONNECTIONS (between electrons) ARE MADE SOMETHING IS CRE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CONNECTIONS (between electrons) ARE MADE SOMETHING IS CREA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ASSIGN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HOME AND DO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IT QUIETLY FOR AT LEAST 15 MINUT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ASSIGNMEN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HOME AND DO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IT QUIETLY FOR AT LEAST 15 MINUT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NOT TO THINK OF ANYTHING…B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SAME TIME PAY GENTLE ATTENTION TO WHAT POPS INTO YOUR M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NOT TO THINK OF ANYTHING…B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SAME TIME PAY GENTLE ATTENTION TO WHAT POPS INTO YOUR M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IN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SOMETHING INTERESTING HAPPE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IT DOWN…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BACK AND TALK ABOUT 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SOMETHING INTERESTING HAPPEN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IT DOWN…AN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E BACK AND TALK ABOUT I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NOW YOU KNOW THA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 IS REALLY NOT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n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 IS REALLY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NOW YOU KNOW THA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 IS REALLY NO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and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 IS REALLY SOME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YOU CAN MAK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PAINTING, STICK CASTLE, DRESS, PAPER BIRDS, RUBBERBAND FANS, WOODEN CHICKENS, CARS, POSTERS, STORIES, ROBOTS, HOUSES,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THING YOU CAN IMAGINE!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YOU CAN MAK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A PAINTING, STICK CASTLE, DRESS, PAPER BIRDS, RUBBERBAND FANS, WOODEN CHICKENS, CARS, POSTERS, STORIES, ROBOTS, HOUSES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YOU CAN IMAGINE!!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F NOTH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OF NOTH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thanks t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and Tony for wanting to learn abou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y thanks to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mas and Tony for wanting to learn about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possible to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your brain still wor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your heart still beat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possible to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your brain still work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your heart still beat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n’t you think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n’t you think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, how do you get someth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, how do you get someth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nihil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Latin word; it mea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 nihil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Latin word; it mea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about making something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 about making something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SSIBLE YOU SAY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OSSIBLE YOU SAY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BE N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AKE A LOOK AT THE AT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’S TAKE A LOOK AT THE AT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6C8-CF17-459E-8D75-5361D6CC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C6DF-A727-4311-96AF-F9C6DDBB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C6D-6633-4285-8360-FC5C451A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ECC9-8890-4362-8C20-19A56F8F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79B5F-5F3E-458A-B0C1-B449A2A4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A7998-F9FC-4907-9297-0546E515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8CAB6-1C02-459C-8AD7-9239393C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349C1-C648-4D39-BAD6-E4455D19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4E111-C18D-4A6D-897B-95D16321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0329A-04E2-4339-8EA2-B2289645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3767F-FD25-4BA4-811A-DE531BAA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F79-C058-43B7-A0FA-9A6CCB3A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9695B-7AD9-488D-BBB0-9F468E52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85D6E-DC77-406B-8C1B-EACC6953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8E56B-AD98-40D3-B436-C7978FF2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6C7BF-5A73-476C-B2AC-134ACF57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CC715-9413-45E8-9DEE-9CE60AFE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91B-56B8-4A67-93AF-0AC4DEBE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2A4-A545-4D1E-ADBB-91E80742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565-49C3-4B06-8F55-AF2831D2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983-BF37-4B9E-9D7C-7A72B66A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EDC-0E91-4323-AE10-B246EF64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BE1-9205-4CE1-B7C1-6F64B381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70EF-27B4-47E7-AFD3-EE8400DD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69A4-8D41-4D09-9827-13BB342E7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831F-C141-42C9-BD07-D789CC5FC9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What is Nothing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empty space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the number ZERO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when you just sit and be quie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made of teeny tiny particles calle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tons, neutrons, and 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green and orange dots in the in the middle are called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ucleu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ato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ctrons spin (really fast) around the nucle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 in the whole Univer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lanets, stars, people, animals, plants) is made of Atom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ERYTH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atom"/>
          <p:cNvPicPr/>
          <p:nvPr/>
        </p:nvPicPr>
        <p:blipFill>
          <a:blip r:embed="rId1"/>
          <a:stretch/>
        </p:blipFill>
        <p:spPr>
          <a:xfrm>
            <a:off x="3429000" y="0"/>
            <a:ext cx="23623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But this picture is not exactly how real atoms appear. We can imagine the atom a lot bigger to get an idea of what it actually looks like. </a:t>
            </a: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4" descr="atom"/>
          <p:cNvPicPr/>
          <p:nvPr/>
        </p:nvPicPr>
        <p:blipFill>
          <a:blip r:embed="rId1"/>
          <a:stretch/>
        </p:blipFill>
        <p:spPr>
          <a:xfrm>
            <a:off x="2743200" y="2819520"/>
            <a:ext cx="3419640" cy="341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If the protons and neutrons were as wide as the tip of your finger, and the electrons were the diameter of one human hair…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Then the </a:t>
            </a:r>
            <a:r>
              <a:rPr b="0" lang="en-US" sz="2800" spc="-1" strike="noStrike" u="sng">
                <a:solidFill>
                  <a:srgbClr val="e3e3ff"/>
                </a:solidFill>
                <a:uFillTx/>
                <a:latin typeface="Arial"/>
              </a:rPr>
              <a:t>whole atom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would be wider than the length of </a:t>
            </a:r>
            <a:r>
              <a:rPr b="1" lang="en-US" sz="2800" spc="-1" strike="noStrike" u="sng">
                <a:solidFill>
                  <a:srgbClr val="e3e3ff"/>
                </a:solidFill>
                <a:uFillTx/>
                <a:latin typeface="Arial"/>
              </a:rPr>
              <a:t>fifteen football fields! </a:t>
            </a:r>
            <a:br>
              <a:rPr sz="28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(no way…YES WAY!!)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5" name="Picture 7" descr="atom"/>
          <p:cNvPicPr/>
          <p:nvPr/>
        </p:nvPicPr>
        <p:blipFill>
          <a:blip r:embed="rId1"/>
          <a:stretch/>
        </p:blipFill>
        <p:spPr>
          <a:xfrm>
            <a:off x="3363840" y="3265560"/>
            <a:ext cx="255276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 WHAT…DOES THIS MEAN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O YOU REALLY WANT TO KNOW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WILL FREA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I PROMI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609480" y="990720"/>
            <a:ext cx="815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2778120"/>
            <a:ext cx="94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3e3ff"/>
                </a:solidFill>
                <a:latin typeface="Times New Roman"/>
              </a:rPr>
              <a:t>ARE YOU READY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IT MEANS THAT THE ATOM IS 99.9%</a:t>
            </a:r>
            <a:br>
              <a:rPr sz="6600"/>
            </a:b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EMPTY SPAC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MEANS THA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TOM IS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NOTHING!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MEANS THA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RYTHING IS MADE OF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NOTHING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LD YOU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 WOULD FREAK YOU 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U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CAN THIS BE TRU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NOW…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UT YOUR HEAD DOWN AN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’mon…Try really hard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e very still…can you do i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IS TRUE BECAUSE,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SE ZILLIONS AND CABILLIONS OF ATOMS HOOK UP (LINK ELECTRONS)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OGETHE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MAKE WHAT WE SEE AS SOLID OBJECT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NE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between electrons) ARE MADE SOMETHING IS CRE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Vinca"/>
          <p:cNvPicPr/>
          <p:nvPr/>
        </p:nvPicPr>
        <p:blipFill>
          <a:blip r:embed="rId1"/>
          <a:stretch/>
        </p:blipFill>
        <p:spPr>
          <a:xfrm>
            <a:off x="2743200" y="3581280"/>
            <a:ext cx="3121200" cy="234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YOUR ASSIGNMEN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O HOME AND DO NOTH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(SIT QUIETLY FOR AT LEAST 15 MINUTES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N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NOT TO THINK OF ANYTHING…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SAME TIME PAY GENTLE ATTENTION TO WHAT POPS INTO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D FINALL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OMETHING INTERESTING HAPPEN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IT DOWN…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BACK AND TALK ABOUT 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, NOW YOU KNOW THAT,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IS REALLY NOTH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n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IS REALLY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 YOU CAN MAK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T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 PAINTING, STICK CASTLE, DRESS, PAPER BIRDS, RUBBERBAND FANS, WOODEN CHICKENS, CARS, POSTERS, STORIES, ROBOTS, HOUSES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YOU CAN IMAGINE!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F NOTH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ny thanks to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mas and Tony for wanting to learn about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s it possible to…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O NOTH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your brain still work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your heart still beat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en’t you thinking…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ME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thinker"/>
          <p:cNvPicPr/>
          <p:nvPr/>
        </p:nvPicPr>
        <p:blipFill>
          <a:blip r:embed="rId1"/>
          <a:stretch/>
        </p:blipFill>
        <p:spPr>
          <a:xfrm>
            <a:off x="5029200" y="1752480"/>
            <a:ext cx="2678040" cy="3981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ut, how do you get something…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ROM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TH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e3e3ff"/>
                </a:solidFill>
                <a:uFillTx/>
                <a:latin typeface="Arial"/>
              </a:rPr>
              <a:t>Ex nihilo</a:t>
            </a: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Latin word; it mea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33520" y="2684520"/>
            <a:ext cx="988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OUT OF NOTHING”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ink about making something…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IMPOSSIBLE YOU SAY??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MAYBE NO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 Narrow"/>
              </a:rPr>
              <a:t>LET’S TAKE A LOOK AT THE ATOM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4" descr="atom"/>
          <p:cNvPicPr/>
          <p:nvPr/>
        </p:nvPicPr>
        <p:blipFill>
          <a:blip r:embed="rId1"/>
          <a:stretch/>
        </p:blipFill>
        <p:spPr>
          <a:xfrm>
            <a:off x="2286000" y="17524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.02292 0.05294 C 0.02986 0.03953 0.03698 0.02497 0.04392 0.00625 C 0.06285 -0.04715 0.06788 -0.09916 0.05399 -0.10702 C 0.03993 -0.1165 0.01285 -0.07905 -0.00608 -0.02565 C -0.01615 0.00232 -0.02205 0.0289 -0.02413 0.04901 C -0.02708 0.06496 -0.02812 0.08091 -0.02812 0.09963 C -0.02812 0.15951 -0.0151 0.20897 0 0.20897 C 0.01493 0.20897 0.02795 0.15951 0.02795 0.09963 C 0.02795 0.07166 0.025 0.04485 0.01997 0.02636 C 0.01788 0.01018 0.01285 -0.00716 0.00694 -0.0245 C -0.01302 -0.07905 -0.0401 -0.1165 -0.05417 -0.10702 C -0.06806 -0.09778 -0.06302 -0.04715 -0.04306 0.00763 C -0.03507 0.03283 -0.02413 0.05433 -0.01302 0.06889 C -0.00503 0.0823 0.00399 0.09432 0.01597 0.10634 C 0.05191 0.14494 0.08785 0.16228 0.09792 0.14633 C 0.10694 0.13038 0.08698 0.08623 0.05087 0.04901 C 0.03594 0.03283 0.01997 0.02104 0.00694 0.01295 C -0.00503 0.00486 -0.02014 -0.00184 -0.03611 -0.00577 C -0.08003 -0.01895 -0.11806 -0.01502 -0.12101 0.00625 C -0.125 0.02636 -0.09201 0.05294 -0.04809 0.06635 C -0.02812 0.07166 -0.00903 0.07421 0.0059 0.07305 C 0.01892 0.07305 0.03299 0.07028 0.04792 0.06635 C 0.09184 0.05294 0.125 0.02497 0.12083 0.00486 C 0.11788 -0.01502 0.07986 -0.02034 0.03594 -0.00716 C 0.01493 -0.00046 -0.00417 0.00902 -0.01701 0.01965 C -0.02812 0.02751 -0.03906 0.03699 -0.05104 0.04901 C -0.08611 0.08761 -0.10712 0.13038 -0.09705 0.14633 C -0.08802 0.16228 -0.05104 0.14494 -0.01615 0.10773 C 0.000869999999999999 0.089 0.01493 0.07028 0.02292 0.05294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2T09:54:58Z</dcterms:modified>
  <cp:revision>20</cp:revision>
  <dc:subject/>
  <dc:title>PowerPoint Presentation</dc:title>
</cp:coreProperties>
</file>